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E19-E8E5-4437-8C69-2120958E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AC1-63A1-4554-B350-F4E48870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9C8-B714-490E-921E-1510E993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582-8459-437A-B89E-D614BAA2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5C5-A2EC-41B8-8873-59E525E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7B0-A22A-470C-B4B6-FA4B1F70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6F7-BE3D-4C6A-9586-C57590F4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91B-031E-4400-8783-5A010587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620-BE06-4BE2-A0AE-AED0D1C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2B6-C5E9-4A16-9ABD-8946D04D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671-17DE-4487-B42C-DA45258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4D9-6402-4810-92F9-7923A76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EB9C-61C6-4ED8-91DC-59C7CBFD1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 Clase 7IL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8-22 de marzo de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67: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bajo para 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u will be working with your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nd as much information that you can in your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u will be working in class with your partners for the next 2 classes on the Countr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JECT AND PRESENTATIONS ARE DUE ON WED. APRIL 3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6:52:50Z</dcterms:created>
  <dc:creator>Helen Zumaeta</dc:creator>
  <dc:description/>
  <dc:language>en-US</dc:language>
  <cp:lastModifiedBy>Helen Zumaeta</cp:lastModifiedBy>
  <dcterms:modified xsi:type="dcterms:W3CDTF">2013-03-18T12:47:57Z</dcterms:modified>
  <cp:revision>8</cp:revision>
  <dc:subject/>
  <dc:title>Me llamo _________ Clase 7IM La fecha es el 15 de diciembre del 2011</dc:title>
</cp:coreProperties>
</file>